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whoosh.wav" ContentType="audio/x-wav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E405-D6BD-4C07-ACC9-75CB395CBC9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 and 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Grade Bi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-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is transferred to the stig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oss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len from the anther of one plant is transferred to the the stigma of a different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/Insect Pollin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ect Pollinated Flow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rtil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5B1D-6C8C-4233-86EE-0A962B488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64F0-4279-4B97-8735-D79318F0B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B532-B2FA-46C4-B0F9-7292D4729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7BBF-81AC-4590-9E59-34C84EF8C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9274-9F51-4A60-AD77-919736E1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3E8C-ACA8-43E5-804E-CB86A081E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06A-D50E-42A3-A19B-98215BA7A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F5DC-FB62-4569-9CA6-92B30B29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5EA1-6370-47FE-8984-9FA16DFE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4BF1-F3FE-4847-BDBE-2D77B7F6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8F74-EA9B-4871-AEF4-D8F4CB85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FF88-4AA7-4ACB-BAAF-83C70ADD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13C4-FBE2-441D-A4BD-E880146B689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 and 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tandard Grade Biolog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elf-pollin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ollen from the anther is transferred to the stig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5" descr="image?id=95387&amp;rendTypeId=34"/>
          <p:cNvPicPr/>
          <p:nvPr/>
        </p:nvPicPr>
        <p:blipFill>
          <a:blip r:embed="rId1"/>
          <a:stretch/>
        </p:blipFill>
        <p:spPr>
          <a:xfrm>
            <a:off x="4718160" y="1523880"/>
            <a:ext cx="4197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Cross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ollen from the anther of one plant is transferred to the the stigma of a different pl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5" descr="image?id=95388&amp;rendTypeId=34"/>
          <p:cNvPicPr/>
          <p:nvPr/>
        </p:nvPicPr>
        <p:blipFill>
          <a:blip r:embed="rId1"/>
          <a:stretch/>
        </p:blipFill>
        <p:spPr>
          <a:xfrm>
            <a:off x="1371600" y="3429000"/>
            <a:ext cx="6858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457200" y="685800"/>
          <a:ext cx="8229600" cy="6172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5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mall petals, often brown or dull gre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sc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 need to attrac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produced in great quanti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ecause most does not reach another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ollen very light and smoot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o it can be blown in the 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nthers loosely attached and dangle 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release pollen into 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in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hangs outside the flower 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igma feathery or net 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o catch the drifting polle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77"/>
          <p:cNvSpPr/>
          <p:nvPr/>
        </p:nvSpPr>
        <p:spPr>
          <a:xfrm>
            <a:off x="1600200" y="15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Wind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ind/Insect Poll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3429000" cy="4572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5238720" y="2057400"/>
            <a:ext cx="344808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304920" y="762120"/>
          <a:ext cx="8534160" cy="5906880"/>
        </p:xfrm>
        <a:graphic>
          <a:graphicData uri="http://schemas.openxmlformats.org/drawingml/2006/table">
            <a:tbl>
              <a:tblPr/>
              <a:tblGrid>
                <a:gridCol w="4267080"/>
                <a:gridCol w="426708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ea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ea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arge, brightly coloured petal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often sweetly scen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usually contain nect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attract insects</a:t>
                      </a:r>
                      <a:br>
                        <a:rPr sz="2000"/>
                      </a:b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moderate quantity of poll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less wastage than with wind pollin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often sticky or spi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stick to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anthers firm and insid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to brush against inse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inside the flo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o that the insect brushes against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stigma has sticky coa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000" spc="-1" strike="noStrike">
                          <a:solidFill>
                            <a:srgbClr val="000000"/>
                          </a:solidFill>
                          <a:latin typeface="Comic Sans MS"/>
                          <a:ea typeface="Arial"/>
                        </a:rPr>
                        <a:t>pollen sticks to i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51"/>
          <p:cNvSpPr/>
          <p:nvPr/>
        </p:nvSpPr>
        <p:spPr>
          <a:xfrm>
            <a:off x="1981080" y="1522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omic Sans MS"/>
              </a:rPr>
              <a:t>Insect Pollinated Flow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Fertilis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7" descr="image?id=63305&amp;rendTypeId=4"/>
          <p:cNvPicPr/>
          <p:nvPr/>
        </p:nvPicPr>
        <p:blipFill>
          <a:blip r:embed="rId1"/>
          <a:srcRect l="0" t="8926" r="0" b="5121"/>
          <a:stretch/>
        </p:blipFill>
        <p:spPr>
          <a:xfrm>
            <a:off x="914400" y="1297080"/>
            <a:ext cx="7680240" cy="55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8:35:09Z</dcterms:created>
  <dc:creator>hhashmi</dc:creator>
  <dc:description/>
  <dc:language>en-US</dc:language>
  <cp:lastModifiedBy>RomaK</cp:lastModifiedBy>
  <dcterms:modified xsi:type="dcterms:W3CDTF">2015-09-04T11:08:03Z</dcterms:modified>
  <cp:revision>10</cp:revision>
  <dc:subject/>
  <dc:title>Pollination and Fertilisation</dc:title>
</cp:coreProperties>
</file>